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B76B-C456-4E14-A253-715310CADA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43BC-8672-4BA1-8263-88E22EDBB0D5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4491-DFED-4559-9AB4-592E86503CCB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3DCB-72DF-489F-A7DD-6690808C2504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0D61-F5F3-42C1-B85B-C9014A46DD3A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BBD9-59F8-48BA-9FCC-F8CEDD591868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D300-CC39-44E0-B83D-24F3AC1019B1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F896-4332-42D6-A653-5B679099D872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606C-C34C-40C9-A401-B7BAA1EC3FDF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3F8D-92A0-4E73-9F75-77A59EAE9A89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B9B6-E70B-44FC-AFD4-8139762F8AAD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3C2D-3329-4A42-B476-3EDB68AABE61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E821-AA88-4128-AD46-318BB2DB73D3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E150-F645-4138-8BEB-B0724EFF6DED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BAB7-E3BA-492E-97FC-1BE1F66FF038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3DBD-2F4A-4B7C-AF05-9A7B4CB08D9B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161F-7A07-455A-BA70-0D07599E0721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5653-FDF8-4558-B441-F7424E9C999C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285C-9460-4787-80D0-9EF7B22BFEE5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242B-15EF-4BA8-A1A9-79701C5476C6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03BB-5E64-41E4-88B9-93BE935A4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493B-7A08-4A49-A39A-94BBAE19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89E6-2EF9-4B49-AA4E-08931B71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5CCB-E969-4A66-AE3F-FCF69C01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9939-86B0-4CCC-884B-3966E638A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0E25-0FAB-4F18-9696-1705BAC2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B27C-1559-4A98-A26F-3B494DCC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00BD-1B3C-44C9-9C2B-839C0746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B44E-2FE9-4750-BBA6-753645F8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F676-04C4-415B-A7D5-751AF087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49CF-E38F-45CA-8215-E7474B4D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5DCD-F3B5-471C-94A9-A75E6D03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F88D-B929-4436-ABFF-4682FD76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1749-4242-464A-9B35-2EA606F3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2125-55A0-4D6C-ADB3-1DF2C257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1192-7E84-4386-B475-33E4760F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9B6A-AC30-416A-8F0A-545AE17CC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A76E-F115-49D7-81FE-B932C7E6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5C92-558E-4400-9A95-B4B83B19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CF44-E4C4-4193-B4E8-F5C67F96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816F-9E84-4B5D-A66E-424830E9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BAF0-96FD-4DC7-8EEB-8EC53296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E8D7-C5E7-4BCF-9B8C-BE565764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583F-169F-4F88-828D-D9C6CB69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68A4-A193-4D03-86F8-BD27D5E8726B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8D45-92F4-4BC4-AF6D-4FE6D7C31533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oblomov.omsk.edu/win/geroi/oblomov" TargetMode="External"/><Relationship Id="rId3" Type="http://schemas.openxmlformats.org/officeDocument/2006/relationships/hyperlink" Target="http://oblomov.omsk.edu/win/geroi/shtolc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42680" y="1356840"/>
            <a:ext cx="6234120" cy="160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42f00"/>
                </a:solidFill>
                <a:latin typeface="Times New Roman"/>
              </a:rPr>
              <a:t>ОБЛОМОВ И ШТОЛЬЦ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Picture 5" descr="BS00554_"/>
          <p:cNvPicPr/>
          <p:nvPr/>
        </p:nvPicPr>
        <p:blipFill>
          <a:blip r:embed="rId1"/>
          <a:stretch/>
        </p:blipFill>
        <p:spPr>
          <a:xfrm>
            <a:off x="6156360" y="4508640"/>
            <a:ext cx="2376360" cy="2073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395280" y="189000"/>
          <a:ext cx="8569440" cy="6476760"/>
        </p:xfrm>
        <a:graphic>
          <a:graphicData uri="http://schemas.openxmlformats.org/drawingml/2006/table">
            <a:tbl>
              <a:tblPr/>
              <a:tblGrid>
                <a:gridCol w="4286160"/>
                <a:gridCol w="4283280"/>
              </a:tblGrid>
              <a:tr h="1330560">
                <a:tc grid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Воспитание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9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Обломов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Штоль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433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32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ru-RU" sz="32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Я – барин, и делать      ничего не умею.”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32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Обломовка-идеал жизни. Любовь и        ласка родных.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“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трудовое, практи-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ческое воспитание”;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“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некому благосло-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вить”; возможность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самостоятельно определить свою дорогу жизни.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42560"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Антипод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0" y="836640"/>
          <a:ext cx="9144000" cy="5769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184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Цель жизни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8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Обломов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Штоль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66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   “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поэтический идеал жизни;” цель была -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  “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вся жизнь есть мысль и труд”;   Сейчас:”Какая у меня цель? Нет её.”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Нет высокой цели.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труд-цель жизни”;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жизнь Штольца с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точки зрения Обло-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мова :”ежедневная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пустая перетасовка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дней.”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Нет высокой цели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726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Двойник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798480"/>
          <a:ext cx="9144000" cy="60595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13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Содержание деятельности</a:t>
                      </a: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Обломов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Штоль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Составление плана переустройства поместья; “вулканическая работа пылкой головы”;  “не привык к движению.”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Лишних движений у него не было”;”ехал посидеть на широком диване Обломова и отвести и успокоить встревоженную или усталую душу…”пустая су-ета, в итоге-“как будто жил вторично</a:t>
                      </a:r>
                      <a:r>
                        <a:rPr b="0" lang="en-US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”</a:t>
                      </a: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16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Двойник в большей степени.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0" y="692280"/>
          <a:ext cx="9144000" cy="59767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33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Отношение к женщине</a:t>
                      </a: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Обломов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Штоль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   “</a:t>
                      </a: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не был их рабом, поклонялся издали”;”признавал её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власть и права”;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женщина-мать и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никогда - любовница.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ru-RU" sz="26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Сама жизнь и труд есть цель жизни, а не женщина”;”он не хотел бы порывистой страсти, как не хотел её Обломов”; “ему грезилась мать - созида-тельница”; “не был рабом, не испытывал огненных радостей</a:t>
                      </a:r>
                      <a:r>
                        <a:rPr b="0" lang="en-US" sz="26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”</a:t>
                      </a:r>
                      <a:r>
                        <a:rPr b="0" lang="ru-RU" sz="26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.</a:t>
                      </a:r>
                      <a:endParaRPr b="0" lang="en-US" sz="2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42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Двойник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0" y="838080"/>
          <a:ext cx="9144000" cy="60199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04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Семейная жизнь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Обломов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Штоль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8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Жена, дети, добрые соседи, хлопоты по хозяйству – это в мечтах; “ему некуда больше идти, нечего искать, идеал его жизни осуществился, хотя без поэзии”-жизнь с Пшеницыной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 “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настала и тишина,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улеглись и порывы”;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  “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всё как мечтал и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Обломов.” Устроенный Штольцем тихий уголок на крымском берегу напоминает старую Обломовку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61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Двойник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728640"/>
          <a:ext cx="9144000" cy="61293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14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Жизненная позиция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Обломов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Штоль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5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 “…</a:t>
                      </a:r>
                      <a:r>
                        <a:rPr b="0" lang="ru-RU" sz="4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душа не рвётся, ум спит спокойно.</a:t>
                      </a:r>
                      <a:r>
                        <a:rPr b="0" lang="en-US" sz="4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”</a:t>
                      </a:r>
                      <a:r>
                        <a:rPr b="0" lang="ru-RU" sz="4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</a:t>
                      </a:r>
                      <a:endParaRPr b="0" lang="en-US" sz="4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ru-RU" sz="30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мы не титаны…мы не пойдём на дерзкую борьбу с мятежными вопросами, не примем их вызова, склоним головы и  смиренно переживем трудную минуту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15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Двойник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Линия отношений Обломова и Штольца (в форме графика)"/>
          <p:cNvPicPr/>
          <p:nvPr/>
        </p:nvPicPr>
        <p:blipFill>
          <a:blip r:embed="rId1"/>
          <a:stretch/>
        </p:blipFill>
        <p:spPr>
          <a:xfrm>
            <a:off x="2195640" y="836640"/>
            <a:ext cx="4752720" cy="305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1547640" y="3933720"/>
          <a:ext cx="6840720" cy="2743200"/>
        </p:xfrm>
        <a:graphic>
          <a:graphicData uri="http://schemas.openxmlformats.org/drawingml/2006/table">
            <a:tbl>
              <a:tblPr/>
              <a:tblGrid>
                <a:gridCol w="2279880"/>
                <a:gridCol w="2281320"/>
                <a:gridCol w="2279520"/>
              </a:tblGrid>
              <a:tr h="368280"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2"/>
                        </a:rPr>
                        <a:t>Обломов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3"/>
                        </a:rPr>
                        <a:t>Штольц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</a:tr>
              <a:tr h="1465560"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Добрый, мягкий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гостеприимный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чувствительный, чуткий.</a:t>
                      </a:r>
                      <a:br>
                        <a:rPr sz="1800"/>
                      </a:br>
                      <a:r>
                        <a:rPr b="0" i="1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Ленивый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Откровенный, холодный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активный, разумный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сдержанный.</a:t>
                      </a:r>
                      <a:br>
                        <a:rPr sz="1800"/>
                      </a:br>
                      <a:r>
                        <a:rPr b="0" i="1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Деятельный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</a:tr>
              <a:tr h="916920">
                <a:tc gridSpan="3"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Идеальным человеком принято считать того, у кого доминирующие качества не слишком ярко выражены (не доставляют проблем окружающим).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3"/>
          <p:cNvSpPr/>
          <p:nvPr/>
        </p:nvSpPr>
        <p:spPr>
          <a:xfrm>
            <a:off x="4481640" y="-4125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10920" y="691920"/>
            <a:ext cx="81565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Обломов и Штольц 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— люди с разным мировосприятием, а следовательно, и разными судьбами. Главное их отличие в том, что деятельный, энергичный Штольц сумел правильно распорядиться своей жизнью и природными талантами, пытаясь «донести сосуд жизни до последнего дня, не пролив ни одной капли напрасно». А у мягкого, доверчивого Обломова не хватало силы воли противостоять трудностям жизни и отстаивать свое право на существование и самореализацию. Он «свое уменье затерял еще в детстве, в Обломовке, среди теток, нянек и дядек. Началось с неуменья надевать чулки и кончилось неуменьем жить»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8" name="Picture 2" descr="Кадр из фильма А. А. Адабашьяна и Н. С. Михалкова «Несколько дней из жизни И. И. Обломова». 1979-80"/>
          <p:cNvPicPr/>
          <p:nvPr/>
        </p:nvPicPr>
        <p:blipFill>
          <a:blip r:embed="rId1"/>
          <a:stretch/>
        </p:blipFill>
        <p:spPr>
          <a:xfrm>
            <a:off x="2627280" y="3789360"/>
            <a:ext cx="4286160" cy="2952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68360" y="1267920"/>
            <a:ext cx="8370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b5249"/>
                </a:solidFill>
                <a:latin typeface="Times New Roman"/>
              </a:rPr>
              <a:t>Вывод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бломов и Штольц 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– это два человека, которые друг без друга существовать не могут. Они дополняют друг друга своими как отрицательными, как и положительными качествами. Их судьбы похожи, они не могут найти свое место в жизни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55640" y="907560"/>
            <a:ext cx="7772400" cy="53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ru-RU" sz="4800" spc="-1" strike="noStrike">
                <a:solidFill>
                  <a:srgbClr val="a40400"/>
                </a:solidFill>
                <a:latin typeface="Times New Roman"/>
              </a:rPr>
              <a:t>“</a:t>
            </a:r>
            <a:r>
              <a:rPr b="0" lang="ru-RU" sz="4800" spc="-1" strike="noStrike">
                <a:solidFill>
                  <a:srgbClr val="a40400"/>
                </a:solidFill>
                <a:latin typeface="Times New Roman"/>
              </a:rPr>
              <a:t>Штольц на высокой ступени своей активной жизни оказывался тем же Обломовым…”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40400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r>
              <a:rPr b="0" lang="en-US" sz="4800" spc="-1" strike="noStrike">
                <a:solidFill>
                  <a:srgbClr val="a40400"/>
                </a:solidFill>
                <a:latin typeface="Times New Roman"/>
              </a:rPr>
              <a:t>(</a:t>
            </a:r>
            <a:r>
              <a:rPr b="0" lang="ru-RU" sz="4800" spc="-1" strike="noStrike">
                <a:solidFill>
                  <a:srgbClr val="a40400"/>
                </a:solidFill>
                <a:latin typeface="Times New Roman"/>
              </a:rPr>
              <a:t>Я.И.Кулешов.)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Цель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выяснить причины столь крепкой дружбы между двумя совершенно противоположными героями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000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дать описание главных героев романа И.А. Гончарова «Обломов»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найти различные и схожие черты этих героев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составить схему взаимоотношений Обломова и Штольца на протяжении развития действия  романа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Илья Ильич Облом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5280" y="1413000"/>
            <a:ext cx="822816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омещик, дворянин, живущий в Петербурге. Ведёт ленивый образ жизни, не занимаясь ничем, кроме рассуждений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Жизнь есть поэзия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Кого не любишь, кто не хорош, с тем не обмакнёшь хлеба в солонку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Всё знаю, всё понимаю - но силы и воли нет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Трудно быть умным и искренним в одно время, особенно в чувстве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Страсть надо ограничить: задушить и утопить в женитьбе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9280" y="907920"/>
            <a:ext cx="81550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Жизнь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Цель</a:t>
            </a:r>
            <a:r>
              <a:rPr b="0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: 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прожить жизнь счастливо; так, чтобы она “не трогала”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Восприятие</a:t>
            </a:r>
            <a:r>
              <a:rPr b="0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: 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колеблющееся — от “приятного дара для наслаждения” до “пристает как забияки: то ущипнет исподтишка, то вдруг нагрянет прямо со лба и обсыплет песком… мочи нет!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Принципы</a:t>
            </a:r>
            <a:r>
              <a:rPr b="0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: 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делать, что душа и сердце пожелает, даже если разум против; никогда не утруждаться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Любовь.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 Никогда не была главной в его жизни, даже в истории с Ольгой она быстро угасла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Дружба.</a:t>
            </a:r>
            <a:r>
              <a:rPr b="0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Еще в юности “холодно простился с толпой друзей”. Есть знакомые, но нет ни одного настоящего друга, кроме Штольца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Отношения с окружающими.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 Мало кому известен, имеет очень узкий круг общения. Сам практически никого не знает. Тем не менее, имеет знакомых, пытающихся вытащить его в свет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Больше всего боялся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 всего трудного и труднодостижимого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http://www.stihi.ru/pics/2010/05/08/4169.jpg"/>
          <p:cNvPicPr/>
          <p:nvPr/>
        </p:nvPicPr>
        <p:blipFill>
          <a:blip r:embed="rId1"/>
          <a:stretch/>
        </p:blipFill>
        <p:spPr>
          <a:xfrm>
            <a:off x="4356000" y="2637000"/>
            <a:ext cx="4530960" cy="4005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http://www.libvrn.ru/OZ/Graphic/book/01_2.jpg"/>
          <p:cNvPicPr/>
          <p:nvPr/>
        </p:nvPicPr>
        <p:blipFill>
          <a:blip r:embed="rId2"/>
          <a:stretch/>
        </p:blipFill>
        <p:spPr>
          <a:xfrm>
            <a:off x="250920" y="1052640"/>
            <a:ext cx="4189320" cy="5805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http://www.proza.ru/pics/2009/05/06/855.jpg"/>
          <p:cNvPicPr/>
          <p:nvPr/>
        </p:nvPicPr>
        <p:blipFill>
          <a:blip r:embed="rId3"/>
          <a:stretch/>
        </p:blipFill>
        <p:spPr>
          <a:xfrm>
            <a:off x="0" y="0"/>
            <a:ext cx="5554800" cy="3486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http://www.taday.ru/data/170/641/1234/19390_Oblomov_CD2_02.jpg"/>
          <p:cNvPicPr/>
          <p:nvPr/>
        </p:nvPicPr>
        <p:blipFill>
          <a:blip r:embed="rId4"/>
          <a:stretch/>
        </p:blipFill>
        <p:spPr>
          <a:xfrm>
            <a:off x="5003640" y="0"/>
            <a:ext cx="4140360" cy="3573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Штольц Андрей Иванович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640" y="1915920"/>
            <a:ext cx="813744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Друг детства Обломова, наполовину немец, практичный и деятельный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b5249"/>
                </a:solidFill>
                <a:latin typeface="Times New Roman"/>
              </a:rPr>
              <a:t>Это не жизнь, это какая-то... обломовщина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 (ч.2, гл.4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b5249"/>
                </a:solidFill>
                <a:latin typeface="Times New Roman"/>
              </a:rPr>
              <a:t>Труд - образ, содержание, стихия и цель жизни. По крайней мере, моей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36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74760" indent="-374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Жизнь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Цель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: “труд — образ, содержание, стихия и цель жизни, по крайней мере моей”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Восприятие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: жизнь — счастье в труде; жизнь без работы — не жизнь; «…“жизнь трогает!” “И слава богу!” — сказал Штольц»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Принципы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: иметь “простой, то есть прямой, настоящий взгляд на жизнь — вот что было его постоянною задачею…”,“Выше всего он ставил настойчивость в достижении целей…”, “…измерит бездну или стену, и если нет верного средства одолеть, он отойдет”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Любовь.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 Штольц любил не сердцем, а разумом, в каждом движении души и сердца искал рациональное объяснение. Поэтому и в молодости “среди увлечения чувствовал землю под ногой”, так как везде искал ум, а не страсть.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Дружба.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 Друзей у Штольца всегда и везде было много — люди тянулись к нему. Но он чувствовал близость только к людям-личностям, искренним и порядочным. Действительно, настоящих друзей, таких как Илья Ильич и Ольга Сергеевна, у него было не так уж и много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Отношения с окружающими.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 Все знают его, он знает всех. Он никого не оставляет к себе равнодушным — его или уважают и ценят или боятся и ненавидят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Больше всего боялся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 того, что ему непонятно или недоступно, и всячески обходил это: от страстей до воображения; но при любом подходящем случае пытался найти ключ к этому, пока непостижимому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http://live4fun.ru/pictures/img_37744038_8558_1.jpg"/>
          <p:cNvPicPr/>
          <p:nvPr/>
        </p:nvPicPr>
        <p:blipFill>
          <a:blip r:embed="rId1"/>
          <a:stretch/>
        </p:blipFill>
        <p:spPr>
          <a:xfrm>
            <a:off x="4335480" y="0"/>
            <a:ext cx="4808520" cy="3141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http://www.ljplus.ru/img4/p/i/pics3000/Oblomov-2.avi_snapshot_00.52.38__2010.11.30_23.21.10_.jpg"/>
          <p:cNvPicPr/>
          <p:nvPr/>
        </p:nvPicPr>
        <p:blipFill>
          <a:blip r:embed="rId2"/>
          <a:stretch/>
        </p:blipFill>
        <p:spPr>
          <a:xfrm>
            <a:off x="4227480" y="3141720"/>
            <a:ext cx="4916520" cy="3716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http://img.labirint.ru/images/news/5541_1279280583.jpg"/>
          <p:cNvPicPr/>
          <p:nvPr/>
        </p:nvPicPr>
        <p:blipFill>
          <a:blip r:embed="rId3"/>
          <a:stretch/>
        </p:blipFill>
        <p:spPr>
          <a:xfrm>
            <a:off x="0" y="0"/>
            <a:ext cx="485316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ом</dc:creator>
  <dc:description/>
  <dc:language>en-US</dc:language>
  <cp:lastModifiedBy>Alexsandrit</cp:lastModifiedBy>
  <dcterms:modified xsi:type="dcterms:W3CDTF">2014-01-17T22:39:35Z</dcterms:modified>
  <cp:revision>30</cp:revision>
  <dc:subject/>
  <dc:title>ОБЛОМОВ И ШТОЛЬЦ</dc:title>
</cp:coreProperties>
</file>